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4434-1F04-4059-8689-2ECBA896D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4F78-8AE5-43CF-8DAA-110D5C6D9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3393-5613-4157-94F4-35EDB3313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8219-820E-4ED8-BEED-8E7F9B75FC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A496-4D3B-4EB8-8D9D-99ECE3989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9AAC-9B00-4FF4-926A-35050EFFC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A1A2-4826-4E52-AE24-73277A87D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AC6A-B9EF-453B-81ED-0FE5C340B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FCD2-F1D4-490B-B46D-51642F0A3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DB7F-CF53-4802-832B-62663E5C4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854F-DDA6-4E93-AB0D-F9DD04247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2F3B-EB9A-4E10-BFE8-521D309CD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BB7F-9C65-4B77-BE21-3D54AE3AD6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F50B-8E57-46A8-9299-3B984B2C22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3556-BC89-4A2D-A0E8-4528BCC331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787A-CF82-4DB2-8A63-2878FBB4A2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C492-F696-456C-91D2-2367D9DC7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AA8D-249E-4D58-95EC-0DF0D06B40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1B71-6D38-4AA9-9E12-6007724A92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D8C8-194E-417F-A671-C072ED00D1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84A8-300F-4030-83B3-F3D05603DF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3DA-64F8-4543-85DB-8303620165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highlighter to highlight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ilitators will visit each table before you begin reading to provide further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65B2-688D-4629-97B5-D18E72571E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AC6F-A130-4F1D-9520-749E300B9C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choose what you consider to be the TOP 3 key features that you have highl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ound Robin – each person will share their TOP 3 with a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e to consensus on your table’s TOP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70A3-8672-4560-B061-8F4A7BC5C1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EBFA-28DB-4E3D-A602-307BB1F26F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D699-0283-4907-A4A5-1363F1B457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FA7B-8E03-418A-9A43-CEC71A68A6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81BA-F9D9-4812-8386-95B7AAD661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9BC-8142-46CE-A3F4-9E02AAE2CD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corner of the room that we have designated for grade 9, 10, 11 or 12 and find someone within your corner who wishes to work on a common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218D-B621-46CB-A957-B782590A9B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4BC5-FB0B-4045-BF08-654E2216C1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 of the broader context and include a statement related to the Big Idea/Enduring Understanding that is addressed by the curriculum expecta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st your chart paper when you ar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86DD-82CD-40D8-AB11-26D7BA943C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AD40-DC99-447E-A16B-11DCF5BA02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one another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icitly look for the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nec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tween the curriculum expectation, learning goal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sure to ask the ‘artists’ to explain their thinking if you ha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67E4-C563-45D0-90B5-CC54D0D925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6A1-B3EC-4305-8C28-CE02A3BD48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5T03:04:20Z</dcterms:modified>
  <cp:revision>38</cp:revision>
  <dc:subject/>
  <dc:title>&lt;Title&gt;</dc:title>
</cp:coreProperties>
</file>